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14E-3609-46D0-98BA-567A6C9E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ehehehhe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CA3-3388-4A6C-A3ED-C518BC7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9AA-8827-4189-A00A-7033DBB6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668-C7EF-49C6-903F-4A114AF3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2DD-5BE0-4237-919B-105A72FB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C8A-D809-490D-9CCF-D82F7E0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82F-F63A-441A-BA33-4656B1E3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AB8-C2F3-49F2-AB47-7C3BCFE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9A4-FA8A-42D3-9C2E-C10AB182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F83-F07E-4FDE-89C0-67401F08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6B3-3B14-4AD9-96B9-1690246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E19-6085-4506-AC8D-7A06605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234-1F34-42CA-BF10-CE871E6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Joker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Joker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E54-3E61-44B6-A53A-D70650ED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Jokerman"/>
              </a:rPr>
              <a:t>Sugar Rush</a:t>
            </a:r>
            <a:endParaRPr b="0" lang="en-US" sz="8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Erin Anderso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out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8:15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3:1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Mac- 9:12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28:53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4:01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Mac- 11:3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e Body- The affect of sugar on the body was the opposite of what I thought it would be.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e Mind- I was right it did take longer to figure out the Sudoko.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Problem 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at effect does sugar have on your body and mind?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I know that sugar’s bad for you but I always wondered how it really effects you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Background Info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Pop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has lots of sugar glucose is a form of sugar. Glucose fuels the brain cell, but too much sugar can deprive the brain of glucose depleting the brains energy.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I think that it will have a negative effect on both your brain and body.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Material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Mountain Dew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lothes pi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udoku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pple juice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y drink water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 people will hold open the clothes pen with their thumb and index finger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I time them while doing it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n I give them 2 cups of Mt. Dew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n repeat step 2 and 3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Compare results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Varibl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Controlled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ame tests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Independent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Sugar, no sugar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Dependent-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long they held the clothes pi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arah- 40:59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40:59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41:10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out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arah- 14:00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5:32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2:2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52:03Z</dcterms:created>
  <dc:creator>USD376</dc:creator>
  <dc:description/>
  <dc:language>en-US</dc:language>
  <cp:lastModifiedBy>USD376</cp:lastModifiedBy>
  <dcterms:modified xsi:type="dcterms:W3CDTF">2012-03-08T16:51:22Z</dcterms:modified>
  <cp:revision>10</cp:revision>
  <dc:subject/>
  <dc:title>Sugar Rush</dc:title>
</cp:coreProperties>
</file>